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546-A135-4EE2-B6BE-E2CE6BF5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8F4-5ED5-4251-9DE2-EF5FBBED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499-3AD4-4739-956B-B75B4792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E6A-FFE0-4EDD-B1A9-36585D79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844D-671D-4E92-A04E-E12800FE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338A-FB49-4315-ABE8-A7795F35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178F-3426-45C8-8DFD-C1B042D4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25A8-9C3E-4E05-B8E5-3B987FE3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0EB8-96B5-4570-B27C-DA8B302A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2D19-26A2-4CCB-AC93-5F4D727F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0850-D58A-499C-AEE0-FBF91ED9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1FC-50B6-419E-96A9-C81C4D35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579E-83A5-4417-98BC-6CB6D919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F650-9C6A-41DF-8C64-320D63B7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5D08-1C63-44AF-A13B-86AEAA0B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3418-3ABA-40FB-A9C9-DD0960AB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2800-F3F6-4B8E-9918-3D6EA278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B9E-C0C4-4AA6-ABDD-6A87B165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707-7A0F-4FD3-B978-9B9AFFDC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FD7-EA81-47A8-BC78-19A09B43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FBD-9E9E-4341-9310-6FC68520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5F2-2C52-44B7-BF23-362030E8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289-FE64-450F-AE34-A0BBC7E6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19B-A422-48AC-8583-03BB2CD7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73B6-9111-4AEC-998F-1FBE749E1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077F-05E0-4646-A6B5-76884C345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7200" spc="-1" strike="noStrike">
                <a:solidFill>
                  <a:srgbClr val="000000"/>
                </a:solidFill>
                <a:latin typeface="French Script MT"/>
              </a:rPr>
              <a:t>The Bottle</a:t>
            </a: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Temperance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U.S. History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914400"/>
            <a:ext cx="7467840" cy="4952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25905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word document, write a persuasive essay either supporting or refuting the artist’s point of view on the effects of alcoh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vidence from the previous slides and your graphic organizer to support your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76320" y="380880"/>
            <a:ext cx="9220320" cy="1676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at was the perspective of the artist,</a:t>
            </a: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 George Cruikshan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George Cruiksha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057400"/>
            <a:ext cx="8001000" cy="65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This is a presentation containing 7 of the 8 plates from </a:t>
            </a:r>
            <a:r>
              <a:rPr b="1" i="1" lang="en-US" sz="4400" spc="-1" strike="noStrike">
                <a:solidFill>
                  <a:srgbClr val="ffffff"/>
                </a:solidFill>
                <a:latin typeface="French Script MT"/>
              </a:rPr>
              <a:t>The Bottle</a:t>
            </a:r>
            <a:r>
              <a:rPr b="1" lang="en-US" sz="4400" spc="-1" strike="noStrike">
                <a:solidFill>
                  <a:srgbClr val="ffffff"/>
                </a:solidFill>
                <a:latin typeface="French Script MT"/>
              </a:rPr>
              <a:t>,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which was a collection of prints created (1847) by George Cruikshank, a caricaturist and book illustrato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Cruiksank captured moralistic themes inspired by the temperance move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604188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ttle Is Brought Out for the First Time: The Husband Induces His Wife "Just to Take a Dr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2003-19998" descr="The Bottle: Plate I. The Bottle Is Brought Out for the First Time: The Husband Induces His Wife &quot;Just to Take a Drop&quot;."/>
          <p:cNvPicPr/>
          <p:nvPr/>
        </p:nvPicPr>
        <p:blipFill>
          <a:blip r:embed="rId2"/>
          <a:srcRect l="16587" t="13601" r="12353" b="20621"/>
          <a:stretch/>
        </p:blipFill>
        <p:spPr>
          <a:xfrm>
            <a:off x="380880" y="77760"/>
            <a:ext cx="8229600" cy="593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604188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Is Discharged &gt;From His Employment For Drunkenness: They Pawn Their Clothes to Supply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2003-19999" descr="The Bottle: Plate II. He Is Discharged &gt;From His Employment For Drunkness: They Pawn Their Clothes to Supply the Bottle."/>
          <p:cNvPicPr/>
          <p:nvPr/>
        </p:nvPicPr>
        <p:blipFill>
          <a:blip r:embed="rId2"/>
          <a:srcRect l="14103" t="11268" r="14418" b="23086"/>
          <a:stretch/>
        </p:blipFill>
        <p:spPr>
          <a:xfrm>
            <a:off x="533520" y="152280"/>
            <a:ext cx="8001000" cy="579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2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9800" y="611964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ecution Sweeps Off the Greater Part of Their Furniture: They Comfort Themselves With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2003-20000" descr="The Bottle: Plate III. An Execution Sweeps Off the Greater Part of Their Furniture: They Comfort Themselves With the Bottle."/>
          <p:cNvPicPr/>
          <p:nvPr/>
        </p:nvPicPr>
        <p:blipFill>
          <a:blip r:embed="rId2"/>
          <a:srcRect l="16419" t="13362" r="12528" b="18871"/>
          <a:stretch/>
        </p:blipFill>
        <p:spPr>
          <a:xfrm>
            <a:off x="507960" y="119160"/>
            <a:ext cx="8035920" cy="601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46120" y="6119640"/>
            <a:ext cx="795024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Unable to Obtain Employment, They are Driven by Poverty into the Streets to Beg, and by This Means They Still Supply the Bot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hi-res" descr=""/>
          <p:cNvPicPr/>
          <p:nvPr/>
        </p:nvPicPr>
        <p:blipFill>
          <a:blip r:embed="rId2"/>
          <a:srcRect l="5660" t="0" r="5660" b="7580"/>
          <a:stretch/>
        </p:blipFill>
        <p:spPr>
          <a:xfrm>
            <a:off x="554040" y="144360"/>
            <a:ext cx="7924680" cy="5915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8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14360" y="610884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, Misery and Want, Destroy Their Youngest Child: They Console Themselves With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003-20003" descr="The Bottle: Plate V. Cold, Misery and Want, Destroy Their Youngest Child: They Console Themselves With the Bottle."/>
          <p:cNvPicPr/>
          <p:nvPr/>
        </p:nvPicPr>
        <p:blipFill>
          <a:blip r:embed="rId2"/>
          <a:srcRect l="13550" t="13607" r="15957" b="23816"/>
          <a:stretch/>
        </p:blipFill>
        <p:spPr>
          <a:xfrm>
            <a:off x="412920" y="152280"/>
            <a:ext cx="8229600" cy="588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003-20004" descr="The Bottle: Plate VI. Fearful Quarrels and Brutal Violence Are the Natural Consequences of the Frequent Use of the Bottle."/>
          <p:cNvPicPr/>
          <p:nvPr/>
        </p:nvPicPr>
        <p:blipFill>
          <a:blip r:embed="rId2"/>
          <a:srcRect l="15300" t="15626" r="12479" b="20291"/>
          <a:stretch/>
        </p:blipFill>
        <p:spPr>
          <a:xfrm>
            <a:off x="457200" y="152280"/>
            <a:ext cx="8077320" cy="572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69720" y="594216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rful Quarrels and Brutal Violence Are the Natural Consequences of the Frequent Use of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6019920"/>
            <a:ext cx="809928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usband, in a State of Furious Drunkenness Kills His Wife With The Instrument of All Their Mis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2003-20018" descr="The Bottle: Plate VII. The Husband, in a State of Furious Drunkeness Kills His Wife With The Instrument of All Their Misery."/>
          <p:cNvPicPr/>
          <p:nvPr/>
        </p:nvPicPr>
        <p:blipFill>
          <a:blip r:embed="rId2"/>
          <a:srcRect l="13116" t="6594" r="11184" b="13400"/>
          <a:stretch/>
        </p:blipFill>
        <p:spPr>
          <a:xfrm>
            <a:off x="457200" y="139680"/>
            <a:ext cx="8077320" cy="588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9:38:04Z</dcterms:created>
  <dc:creator>Magner</dc:creator>
  <dc:description/>
  <dc:language>en-US</dc:language>
  <cp:lastModifiedBy>Magner</cp:lastModifiedBy>
  <dcterms:modified xsi:type="dcterms:W3CDTF">2008-09-20T19:38:04Z</dcterms:modified>
  <cp:revision>16</cp:revision>
  <dc:subject/>
  <dc:title>The Bottle</dc:title>
</cp:coreProperties>
</file>