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82D9-6DFC-4294-A5C4-2482879C9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AD58-8EBC-4A7C-BE0F-33FA67D8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2482-74EA-4F92-ABA7-A7C041F11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39A9-7995-439F-ADEF-B1063AAB5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0048-6E8E-4DA1-95B2-9C8F34B6D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DB38-14A3-424F-8743-4356D3B7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D65B-BDC3-4041-A354-511D7EBC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A2DC-2188-407A-A83A-85700E57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FEAD-B83E-4D21-A1EE-F445CD7F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57E7-3C3F-4CE0-8AEE-772DE55D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ACAD-908D-4958-BBDC-81436B29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5ACF-E6E9-4470-95E6-CE1ECBF1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1A23-D2A3-493B-8D73-26EC71E5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EF5F-0224-4700-BD32-F182F16F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3489-FF6F-47EA-B91A-8B3C309E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326F-24C6-43AB-BEE7-1B89F3B17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BD7F-375B-4C1B-91B9-BF28DDF9B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435C-9B12-4978-A50E-D5E11548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DB5C-ADA8-4334-B98E-20C95344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8FF9-34BD-43EF-8B4D-186EB1AD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7E2B-C034-4E72-8BA0-531FAB21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16BF-2AB2-42AF-8194-F539219E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8F14-0A45-42B1-9191-1890FD51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F452-F6DA-4883-91EE-6DC23061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A05F-18FE-429B-B32D-20AA6FFAD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43C4-4C29-42F0-A1EF-9BAA2E3C4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1" lang="en-US" sz="7200" spc="-1" strike="noStrike">
                <a:solidFill>
                  <a:srgbClr val="000000"/>
                </a:solidFill>
                <a:latin typeface="French Script MT"/>
              </a:rPr>
              <a:t>The Bottle</a:t>
            </a:r>
            <a:r>
              <a:rPr b="1" lang="en-US" sz="5400" spc="-1" strike="noStrike">
                <a:solidFill>
                  <a:srgbClr val="000000"/>
                </a:solidFill>
                <a:latin typeface="Book Antiqua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47920" y="33526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ench Script MT"/>
              </a:rPr>
              <a:t>Temperance Mo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ench Script MT"/>
              </a:rPr>
              <a:t>U.S. History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914400"/>
            <a:ext cx="7467840" cy="4952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6840" y="2590560"/>
            <a:ext cx="8534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a word document, write a persuasive essay either supporting or refuting the artist’s point of view on the effects of alcoh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evidence from the previous slides and your graphic organizer to support your pos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76320" y="380880"/>
            <a:ext cx="9220320" cy="1676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33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What was the perspective of the artist,</a:t>
            </a:r>
            <a:r>
              <a:rPr b="1" lang="en-US" sz="5400" spc="-1" strike="noStrike">
                <a:solidFill>
                  <a:srgbClr val="ffffff"/>
                </a:solidFill>
                <a:latin typeface="French Script MT"/>
              </a:rPr>
              <a:t> George Cruikshank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33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rench Script MT"/>
              </a:rPr>
              <a:t>George Cruikshan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2057400"/>
            <a:ext cx="8001000" cy="65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ench Script MT"/>
              </a:rPr>
              <a:t>This is a presentation containing 7 of the 8 plates from </a:t>
            </a:r>
            <a:r>
              <a:rPr b="1" i="1" lang="en-US" sz="4400" spc="-1" strike="noStrike">
                <a:solidFill>
                  <a:srgbClr val="ffffff"/>
                </a:solidFill>
                <a:latin typeface="French Script MT"/>
              </a:rPr>
              <a:t>The Bottle</a:t>
            </a:r>
            <a:r>
              <a:rPr b="1" lang="en-US" sz="4400" spc="-1" strike="noStrike">
                <a:solidFill>
                  <a:srgbClr val="ffffff"/>
                </a:solidFill>
                <a:latin typeface="French Script MT"/>
              </a:rPr>
              <a:t>,</a:t>
            </a:r>
            <a:r>
              <a:rPr b="1" lang="en-US" sz="4000" spc="-1" strike="noStrike">
                <a:solidFill>
                  <a:srgbClr val="ffffff"/>
                </a:solidFill>
                <a:latin typeface="French Script MT"/>
              </a:rPr>
              <a:t> which was a collection of prints created (1847) by George Cruikshank, a caricaturist and book illustrator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ench Script MT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French Script MT"/>
              </a:rPr>
              <a:t>Cruiksank captured moralistic themes inspired by the temperance movem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880" y="6041880"/>
            <a:ext cx="822960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ottle Is Brought Out for the First Time: The Husband Induces His Wife "Just to Take a Dr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2003-19998" descr="The Bottle: Plate I. The Bottle Is Brought Out for the First Time: The Husband Induces His Wife &quot;Just to Take a Drop&quot;."/>
          <p:cNvPicPr/>
          <p:nvPr/>
        </p:nvPicPr>
        <p:blipFill>
          <a:blip r:embed="rId2"/>
          <a:srcRect l="16587" t="13601" r="12353" b="20621"/>
          <a:stretch/>
        </p:blipFill>
        <p:spPr>
          <a:xfrm>
            <a:off x="380880" y="77760"/>
            <a:ext cx="8229600" cy="5938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9" name=""/>
          <p:cNvSpPr txBox="1"/>
          <p:nvPr/>
        </p:nvSpPr>
        <p:spPr>
          <a:xfrm>
            <a:off x="488880" y="206280"/>
            <a:ext cx="141624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I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9800" y="6041880"/>
            <a:ext cx="810900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Is Discharged &gt;From His Employment For Drunkenness: They Pawn Their Clothes to Supply the Bottl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2003-19999" descr="The Bottle: Plate II. He Is Discharged &gt;From His Employment For Drunkness: They Pawn Their Clothes to Supply the Bottle."/>
          <p:cNvPicPr/>
          <p:nvPr/>
        </p:nvPicPr>
        <p:blipFill>
          <a:blip r:embed="rId2"/>
          <a:srcRect l="14103" t="11268" r="14418" b="23086"/>
          <a:stretch/>
        </p:blipFill>
        <p:spPr>
          <a:xfrm>
            <a:off x="533520" y="152280"/>
            <a:ext cx="8001000" cy="5797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2" name=""/>
          <p:cNvSpPr txBox="1"/>
          <p:nvPr/>
        </p:nvSpPr>
        <p:spPr>
          <a:xfrm>
            <a:off x="641520" y="206280"/>
            <a:ext cx="1415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II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9800" y="6119640"/>
            <a:ext cx="810900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Execution Sweeps Off the Greater Part of Their Furniture: They Comfort Themselves With the Bott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2003-20000" descr="The Bottle: Plate III. An Execution Sweeps Off the Greater Part of Their Furniture: They Comfort Themselves With the Bottle."/>
          <p:cNvPicPr/>
          <p:nvPr/>
        </p:nvPicPr>
        <p:blipFill>
          <a:blip r:embed="rId2"/>
          <a:srcRect l="16419" t="13362" r="12528" b="18871"/>
          <a:stretch/>
        </p:blipFill>
        <p:spPr>
          <a:xfrm>
            <a:off x="507960" y="119160"/>
            <a:ext cx="8035920" cy="6018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5" name=""/>
          <p:cNvSpPr txBox="1"/>
          <p:nvPr/>
        </p:nvSpPr>
        <p:spPr>
          <a:xfrm>
            <a:off x="641520" y="206280"/>
            <a:ext cx="1415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III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46120" y="6119640"/>
            <a:ext cx="795024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Unable to Obtain Employment, They are Driven by Poverty into the Streets to Beg, and by This Means They Still Supply the Bott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hi-res" descr=""/>
          <p:cNvPicPr/>
          <p:nvPr/>
        </p:nvPicPr>
        <p:blipFill>
          <a:blip r:embed="rId2"/>
          <a:srcRect l="5660" t="0" r="5660" b="7580"/>
          <a:stretch/>
        </p:blipFill>
        <p:spPr>
          <a:xfrm>
            <a:off x="554040" y="144360"/>
            <a:ext cx="7924680" cy="5915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8" name=""/>
          <p:cNvSpPr txBox="1"/>
          <p:nvPr/>
        </p:nvSpPr>
        <p:spPr>
          <a:xfrm>
            <a:off x="641520" y="206280"/>
            <a:ext cx="1415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IV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14360" y="6108840"/>
            <a:ext cx="822960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d, Misery and Want, Destroy Their Youngest Child: They Console Themselves With the Bottl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2003-20003" descr="The Bottle: Plate V. Cold, Misery and Want, Destroy Their Youngest Child: They Console Themselves With the Bottle."/>
          <p:cNvPicPr/>
          <p:nvPr/>
        </p:nvPicPr>
        <p:blipFill>
          <a:blip r:embed="rId2"/>
          <a:srcRect l="13550" t="13607" r="15957" b="23816"/>
          <a:stretch/>
        </p:blipFill>
        <p:spPr>
          <a:xfrm>
            <a:off x="412920" y="152280"/>
            <a:ext cx="8229600" cy="5886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1" name=""/>
          <p:cNvSpPr txBox="1"/>
          <p:nvPr/>
        </p:nvSpPr>
        <p:spPr>
          <a:xfrm>
            <a:off x="488880" y="206280"/>
            <a:ext cx="141624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V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2003-20004" descr="The Bottle: Plate VI. Fearful Quarrels and Brutal Violence Are the Natural Consequences of the Frequent Use of the Bottle."/>
          <p:cNvPicPr/>
          <p:nvPr/>
        </p:nvPicPr>
        <p:blipFill>
          <a:blip r:embed="rId2"/>
          <a:srcRect l="15300" t="15626" r="12479" b="20291"/>
          <a:stretch/>
        </p:blipFill>
        <p:spPr>
          <a:xfrm>
            <a:off x="457200" y="152280"/>
            <a:ext cx="8077320" cy="5721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369720" y="5942160"/>
            <a:ext cx="822960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rful Quarrels and Brutal Violence Are the Natural Consequences of the Frequent Use of the Bott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88880" y="206280"/>
            <a:ext cx="141624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VI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6019920"/>
            <a:ext cx="809928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Husband, in a State of Furious Drunkenness Kills His Wife With The Instrument of All Their Mis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2003-20018" descr="The Bottle: Plate VII. The Husband, in a State of Furious Drunkeness Kills His Wife With The Instrument of All Their Misery."/>
          <p:cNvPicPr/>
          <p:nvPr/>
        </p:nvPicPr>
        <p:blipFill>
          <a:blip r:embed="rId2"/>
          <a:srcRect l="13116" t="6594" r="11184" b="13400"/>
          <a:stretch/>
        </p:blipFill>
        <p:spPr>
          <a:xfrm>
            <a:off x="457200" y="139680"/>
            <a:ext cx="8077320" cy="5880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7" name=""/>
          <p:cNvSpPr txBox="1"/>
          <p:nvPr/>
        </p:nvSpPr>
        <p:spPr>
          <a:xfrm>
            <a:off x="488880" y="206280"/>
            <a:ext cx="141624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VII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0T19:38:04Z</dcterms:created>
  <dc:creator>Magner</dc:creator>
  <dc:description/>
  <dc:language>en-US</dc:language>
  <cp:lastModifiedBy>Magner</cp:lastModifiedBy>
  <dcterms:modified xsi:type="dcterms:W3CDTF">2008-09-20T19:38:04Z</dcterms:modified>
  <cp:revision>16</cp:revision>
  <dc:subject/>
  <dc:title>The Bottle</dc:title>
</cp:coreProperties>
</file>