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3C84-E049-4603-AAA0-499099E7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4B2D-F36B-443B-9D7C-E2FB068A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6D2A-B2EB-46E4-AA23-C9F83D0FE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A195-A9E4-489B-B611-37DD5565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BB0E-774A-4B3C-858A-091FE7E52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98D8-66A3-4903-AF24-6DFBA09F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9366-6FAD-467C-9FDD-E68E7853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8F26-312F-4035-AC61-9615CB4D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8BBD-B4CF-4445-9D61-44EFA829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CCE9-41A7-47A2-9273-E1DB9B79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9594-A52D-44DB-8394-44E36358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1FF7-A033-4E42-B359-59864FFE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C796-63F1-4B13-81D1-14DC9A79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E3AC-D463-474A-A1AC-1C00AD7E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05A0-B133-4D56-9A2F-776D670C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BADB-3B24-486C-A503-F392DFD5D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45D1-3893-4944-9AAC-BF33EC5BA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6796-5E9B-466E-98A0-772C9729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A9D8-2090-4924-87E1-F140E6DA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66CF-8E65-4121-9A3D-621CEC9B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2FC7-A55C-4B32-8302-88841C4C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B3A3-B555-45E3-B102-04BA2D6A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BD41-0272-48AA-A73D-F0C6828F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3F52-89F1-42E8-821F-ECE83457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6EA0-0DAE-407F-A5BB-63620503C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7C19-7BF8-41CC-9B03-B6A5AC4A3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1" lang="en-US" sz="7200" spc="-1" strike="noStrike">
                <a:solidFill>
                  <a:srgbClr val="000000"/>
                </a:solidFill>
                <a:latin typeface="French Script MT"/>
              </a:rPr>
              <a:t>The Bottle</a:t>
            </a:r>
            <a:r>
              <a:rPr b="1" lang="en-US" sz="5400" spc="-1" strike="noStrike">
                <a:solidFill>
                  <a:srgbClr val="000000"/>
                </a:solidFill>
                <a:latin typeface="Book Antiqua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47920" y="33526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ench Script MT"/>
              </a:rPr>
              <a:t>Temperance Mo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ench Script MT"/>
              </a:rPr>
              <a:t>U.S. History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914400"/>
            <a:ext cx="7467840" cy="4952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6840" y="2590560"/>
            <a:ext cx="8534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a word document, write a persuasive essay either supporting or refuting the artist’s point of view on the effects of alcoh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evidence from the previous slides and your graphic organizer to support your pos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-76320" y="380880"/>
            <a:ext cx="9220320" cy="1676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33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What was the perspective of the artist,</a:t>
            </a:r>
            <a:r>
              <a:rPr b="1" lang="en-US" sz="5400" spc="-1" strike="noStrike">
                <a:solidFill>
                  <a:srgbClr val="ffffff"/>
                </a:solidFill>
                <a:latin typeface="French Script MT"/>
              </a:rPr>
              <a:t> George Cruikshank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33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French Script MT"/>
              </a:rPr>
              <a:t>George Cruikshan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2057400"/>
            <a:ext cx="8001000" cy="65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ench Script MT"/>
              </a:rPr>
              <a:t>This is a presentation containing 7 of the 8 plates from </a:t>
            </a:r>
            <a:r>
              <a:rPr b="1" i="1" lang="en-US" sz="4400" spc="-1" strike="noStrike">
                <a:solidFill>
                  <a:srgbClr val="ffffff"/>
                </a:solidFill>
                <a:latin typeface="French Script MT"/>
              </a:rPr>
              <a:t>The Bottle</a:t>
            </a:r>
            <a:r>
              <a:rPr b="1" lang="en-US" sz="4400" spc="-1" strike="noStrike">
                <a:solidFill>
                  <a:srgbClr val="ffffff"/>
                </a:solidFill>
                <a:latin typeface="French Script MT"/>
              </a:rPr>
              <a:t>,</a:t>
            </a:r>
            <a:r>
              <a:rPr b="1" lang="en-US" sz="4000" spc="-1" strike="noStrike">
                <a:solidFill>
                  <a:srgbClr val="ffffff"/>
                </a:solidFill>
                <a:latin typeface="French Script MT"/>
              </a:rPr>
              <a:t> which was a collection of prints created (1847) by George Cruikshank, a caricaturist and book illustrator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ench Script MT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French Script MT"/>
              </a:rPr>
              <a:t>Cruiksank captured moralistic themes inspired by the temperance movem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0880" y="6041880"/>
            <a:ext cx="822960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ottle Is Brought Out for the First Time: The Husband Induces His Wife "Just to Take a Dr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2003-19998" descr="The Bottle: Plate I. The Bottle Is Brought Out for the First Time: The Husband Induces His Wife &quot;Just to Take a Drop&quot;."/>
          <p:cNvPicPr/>
          <p:nvPr/>
        </p:nvPicPr>
        <p:blipFill>
          <a:blip r:embed="rId2"/>
          <a:srcRect l="16587" t="13601" r="12353" b="20621"/>
          <a:stretch/>
        </p:blipFill>
        <p:spPr>
          <a:xfrm>
            <a:off x="380880" y="77760"/>
            <a:ext cx="8229600" cy="5938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9" name=""/>
          <p:cNvSpPr txBox="1"/>
          <p:nvPr/>
        </p:nvSpPr>
        <p:spPr>
          <a:xfrm>
            <a:off x="488880" y="206280"/>
            <a:ext cx="141624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I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9800" y="6041880"/>
            <a:ext cx="810900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 Is Discharged &gt;From His Employment For Drunkenness: They Pawn Their Clothes to Supply the Bottl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2003-19999" descr="The Bottle: Plate II. He Is Discharged &gt;From His Employment For Drunkness: They Pawn Their Clothes to Supply the Bottle."/>
          <p:cNvPicPr/>
          <p:nvPr/>
        </p:nvPicPr>
        <p:blipFill>
          <a:blip r:embed="rId2"/>
          <a:srcRect l="14103" t="11268" r="14418" b="23086"/>
          <a:stretch/>
        </p:blipFill>
        <p:spPr>
          <a:xfrm>
            <a:off x="533520" y="152280"/>
            <a:ext cx="8001000" cy="5797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2" name=""/>
          <p:cNvSpPr txBox="1"/>
          <p:nvPr/>
        </p:nvSpPr>
        <p:spPr>
          <a:xfrm>
            <a:off x="641520" y="206280"/>
            <a:ext cx="1415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II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9800" y="6119640"/>
            <a:ext cx="810900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Execution Sweeps Off the Greater Part of Their Furniture: They Comfort Themselves With the Bott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2003-20000" descr="The Bottle: Plate III. An Execution Sweeps Off the Greater Part of Their Furniture: They Comfort Themselves With the Bottle."/>
          <p:cNvPicPr/>
          <p:nvPr/>
        </p:nvPicPr>
        <p:blipFill>
          <a:blip r:embed="rId2"/>
          <a:srcRect l="16419" t="13362" r="12528" b="18871"/>
          <a:stretch/>
        </p:blipFill>
        <p:spPr>
          <a:xfrm>
            <a:off x="507960" y="119160"/>
            <a:ext cx="8035920" cy="6018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5" name=""/>
          <p:cNvSpPr txBox="1"/>
          <p:nvPr/>
        </p:nvSpPr>
        <p:spPr>
          <a:xfrm>
            <a:off x="641520" y="206280"/>
            <a:ext cx="1415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III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46120" y="6119640"/>
            <a:ext cx="795024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Unable to Obtain Employment, They are Driven by Poverty into the Streets to Beg, and by This Means They Still Supply the Bott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hi-res" descr=""/>
          <p:cNvPicPr/>
          <p:nvPr/>
        </p:nvPicPr>
        <p:blipFill>
          <a:blip r:embed="rId2"/>
          <a:srcRect l="5660" t="0" r="5660" b="7580"/>
          <a:stretch/>
        </p:blipFill>
        <p:spPr>
          <a:xfrm>
            <a:off x="554040" y="144360"/>
            <a:ext cx="7924680" cy="5915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8" name=""/>
          <p:cNvSpPr txBox="1"/>
          <p:nvPr/>
        </p:nvSpPr>
        <p:spPr>
          <a:xfrm>
            <a:off x="641520" y="206280"/>
            <a:ext cx="1415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IV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14360" y="6108840"/>
            <a:ext cx="822960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d, Misery and Want, Destroy Their Youngest Child: They Console Themselves With the Bottl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2003-20003" descr="The Bottle: Plate V. Cold, Misery and Want, Destroy Their Youngest Child: They Console Themselves With the Bottle."/>
          <p:cNvPicPr/>
          <p:nvPr/>
        </p:nvPicPr>
        <p:blipFill>
          <a:blip r:embed="rId2"/>
          <a:srcRect l="13550" t="13607" r="15957" b="23816"/>
          <a:stretch/>
        </p:blipFill>
        <p:spPr>
          <a:xfrm>
            <a:off x="412920" y="152280"/>
            <a:ext cx="8229600" cy="5886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1" name=""/>
          <p:cNvSpPr txBox="1"/>
          <p:nvPr/>
        </p:nvSpPr>
        <p:spPr>
          <a:xfrm>
            <a:off x="488880" y="206280"/>
            <a:ext cx="141624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V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2003-20004" descr="The Bottle: Plate VI. Fearful Quarrels and Brutal Violence Are the Natural Consequences of the Frequent Use of the Bottle."/>
          <p:cNvPicPr/>
          <p:nvPr/>
        </p:nvPicPr>
        <p:blipFill>
          <a:blip r:embed="rId2"/>
          <a:srcRect l="15300" t="15626" r="12479" b="20291"/>
          <a:stretch/>
        </p:blipFill>
        <p:spPr>
          <a:xfrm>
            <a:off x="457200" y="152280"/>
            <a:ext cx="8077320" cy="5721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369720" y="5942160"/>
            <a:ext cx="822960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rful Quarrels and Brutal Violence Are the Natural Consequences of the Frequent Use of the Bott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88880" y="206280"/>
            <a:ext cx="141624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VI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6019920"/>
            <a:ext cx="809928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Husband, in a State of Furious Drunkenness Kills His Wife With The Instrument of All Their Mis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2003-20018" descr="The Bottle: Plate VII. The Husband, in a State of Furious Drunkeness Kills His Wife With The Instrument of All Their Misery."/>
          <p:cNvPicPr/>
          <p:nvPr/>
        </p:nvPicPr>
        <p:blipFill>
          <a:blip r:embed="rId2"/>
          <a:srcRect l="13116" t="6594" r="11184" b="13400"/>
          <a:stretch/>
        </p:blipFill>
        <p:spPr>
          <a:xfrm>
            <a:off x="457200" y="139680"/>
            <a:ext cx="8077320" cy="5880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7" name=""/>
          <p:cNvSpPr txBox="1"/>
          <p:nvPr/>
        </p:nvSpPr>
        <p:spPr>
          <a:xfrm>
            <a:off x="488880" y="206280"/>
            <a:ext cx="141624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VII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0T19:38:04Z</dcterms:created>
  <dc:creator>Magner</dc:creator>
  <dc:description/>
  <dc:language>en-US</dc:language>
  <cp:lastModifiedBy>Magner</cp:lastModifiedBy>
  <dcterms:modified xsi:type="dcterms:W3CDTF">2008-09-20T19:38:04Z</dcterms:modified>
  <cp:revision>16</cp:revision>
  <dc:subject/>
  <dc:title>The Bottle</dc:title>
</cp:coreProperties>
</file>