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2CF-10DF-4D7F-9685-DCC63BF2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A9D-96BC-4F91-A8CA-4EE59F2E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878-E237-4F30-8E1D-CB1A3BBE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D73-6E6D-41DE-AAD1-0A6B4920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EE5D-80FF-413E-89BB-82A3B761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9079-9704-4FEF-87B1-8FF0209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5E4C-2091-4BCD-93B6-A1262832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6786-FD8B-4A36-A202-79E2694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21AF-D027-43AE-9C30-2E7A52F3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117F-4127-497D-B468-1EDFA580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6A3-4E2C-4449-9579-DD5BC7DB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579-4FD0-4B96-9FBC-F4F0F88A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A381-C376-4D34-A200-0645063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F53-0A0B-4F06-A0D9-911D61F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E7AB-1859-4330-9893-0FFD987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4375-F23F-448A-8BE0-F98FFA97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F766-5C00-45B8-8034-ED259356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782-27C2-4D47-9FD8-9EC6B591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3B0-03BD-490D-9D18-F69AD84B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8BA-D49D-4D66-87E0-C28C6038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493-D8BB-4DDB-AD03-586CEB0A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F27-EBD7-430A-B8B8-6719061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403-A0EB-4803-BA2B-5B9BBB44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4C5-45B4-4FEC-A24A-EC9692D9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97F-F0AA-4A2D-805A-22AD2BFBB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D84E-8377-456C-AA14-8D07E17C2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essay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03-19998" descr="The Bottle: Plate I. The Bottle Is Brought Out for the First Time: The Husband Induces His Wife &quot;Just to Take a Drop&quot;."/>
          <p:cNvPicPr/>
          <p:nvPr/>
        </p:nvPicPr>
        <p:blipFill>
          <a:blip r:embed="rId2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3-19999" descr="The Bottle: Plate II. He Is Discharged &gt;From His Employment For Drunkness: They Pawn Their Clothes to Supply the Bottle."/>
          <p:cNvPicPr/>
          <p:nvPr/>
        </p:nvPicPr>
        <p:blipFill>
          <a:blip r:embed="rId2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003-20000" descr="The Bottle: Plate III. An Execution Sweeps Off the Greater Part of Their Furniture: They Comfort Themselves With the Bottle."/>
          <p:cNvPicPr/>
          <p:nvPr/>
        </p:nvPicPr>
        <p:blipFill>
          <a:blip r:embed="rId2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i-res" descr=""/>
          <p:cNvPicPr/>
          <p:nvPr/>
        </p:nvPicPr>
        <p:blipFill>
          <a:blip r:embed="rId2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003-20003" descr="The Bottle: Plate V. Cold, Misery and Want, Destroy Their Youngest Child: They Console Themselves With the Bottle."/>
          <p:cNvPicPr/>
          <p:nvPr/>
        </p:nvPicPr>
        <p:blipFill>
          <a:blip r:embed="rId2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3-20004" descr="The Bottle: Plate VI. Fearful Quarrels and Brutal Violence Are the Natural Consequences of the Frequent Use of the Bottle."/>
          <p:cNvPicPr/>
          <p:nvPr/>
        </p:nvPicPr>
        <p:blipFill>
          <a:blip r:embed="rId2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003-20018" descr="The Bottle: Plate VII. The Husband, in a State of Furious Drunkeness Kills His Wife With The Instrument of All Their Misery."/>
          <p:cNvPicPr/>
          <p:nvPr/>
        </p:nvPicPr>
        <p:blipFill>
          <a:blip r:embed="rId2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Magner</cp:lastModifiedBy>
  <dcterms:modified xsi:type="dcterms:W3CDTF">2008-09-20T19:38:04Z</dcterms:modified>
  <cp:revision>16</cp:revision>
  <dc:subject/>
  <dc:title>The Bottle</dc:title>
</cp:coreProperties>
</file>