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6EC-8BF0-4774-B15A-E9D61CE0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933-C3E4-44ED-97AB-42AF8C0B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2DC-5E45-4897-8037-20CCBC17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D7F-DB35-4CB7-B08C-710BE800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71AE-288C-4D66-8D90-5885AED8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A2B9-2969-45BC-B613-AEA4F4A4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DF21-D690-45DC-9901-EB7F1C4A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4E29-A23A-4D0F-8FB7-9799DFA1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8BBA-EFE3-4FFE-95CA-169FEDBE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7055-DB5C-4C7E-A146-697940DD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005A-2B79-4EBC-BB21-24312D5C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561-1BDF-4D2B-87E2-DC55730A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0584-5205-4EA4-9B1F-F944D0B3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A18A-2FDC-4A46-8E7C-D0DF092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DA78-B810-41D6-9372-B3149D0E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D907-2042-4F45-AFD1-2436F638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F629-4B19-460A-BD1C-68AF38AA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FE4-89F5-4D49-8D18-A83BA6FC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E25-94AC-41A6-9A28-18C1C7B7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35D-189C-49F4-8B63-0A2E8FA5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B14-6D85-4D76-BC66-6F53E888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318-50D8-4A2C-BED5-081F464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863-7391-4F71-987B-425E8816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AED-F46B-44CC-8B33-CF9CC5F6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6316-E70D-4ABF-8566-5609B32CA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09E1-CEAC-45CE-B669-6F10E16B2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7200" spc="-1" strike="noStrike">
                <a:solidFill>
                  <a:srgbClr val="000000"/>
                </a:solidFill>
                <a:latin typeface="French Script MT"/>
              </a:rPr>
              <a:t>The Bottle</a:t>
            </a: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Temperance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U.S. History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914400"/>
            <a:ext cx="7467840" cy="4952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25905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word document, write a persuasive essay either supporting or refuting the artist’s point of view on the effects of alcoh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vidence from the previous slides and your graphic organizer to support your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76320" y="380880"/>
            <a:ext cx="9220320" cy="1676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 was the perspective of the artist,</a:t>
            </a: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 George Cruikshan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George Cruiksh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057400"/>
            <a:ext cx="8001000" cy="65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This is a presentation containing 7 of the 8 plates from </a:t>
            </a:r>
            <a:r>
              <a:rPr b="1" i="1" lang="en-US" sz="4400" spc="-1" strike="noStrike">
                <a:solidFill>
                  <a:srgbClr val="ffffff"/>
                </a:solidFill>
                <a:latin typeface="French Script MT"/>
              </a:rPr>
              <a:t>The Bottle</a:t>
            </a: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,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which was a collection of prints created (1847) by George Cruikshank, a caricaturist and book illustrato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Cruiksank captured moralistic themes inspired by the temperance move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604188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ttle Is Brought Out for the First Time: The Husband Induces His Wife "Just to Take a Dr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2003-19998" descr="The Bottle: Plate I. The Bottle Is Brought Out for the First Time: The Husband Induces His Wife &quot;Just to Take a Drop&quot;."/>
          <p:cNvPicPr/>
          <p:nvPr/>
        </p:nvPicPr>
        <p:blipFill>
          <a:blip r:embed="rId2"/>
          <a:srcRect l="16587" t="13601" r="12353" b="20621"/>
          <a:stretch/>
        </p:blipFill>
        <p:spPr>
          <a:xfrm>
            <a:off x="380880" y="77760"/>
            <a:ext cx="8229600" cy="593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604188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Is Discharged &gt;From His Employment For Drunkenness: They Pawn Their Clothes to Supply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003-19999" descr="The Bottle: Plate II. He Is Discharged &gt;From His Employment For Drunkness: They Pawn Their Clothes to Supply the Bottle."/>
          <p:cNvPicPr/>
          <p:nvPr/>
        </p:nvPicPr>
        <p:blipFill>
          <a:blip r:embed="rId2"/>
          <a:srcRect l="14103" t="11268" r="14418" b="23086"/>
          <a:stretch/>
        </p:blipFill>
        <p:spPr>
          <a:xfrm>
            <a:off x="533520" y="152280"/>
            <a:ext cx="8001000" cy="579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2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9800" y="611964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ecution Sweeps Off the Greater Part of Their Furniture: They Comfort Themselves With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2003-20000" descr="The Bottle: Plate III. An Execution Sweeps Off the Greater Part of Their Furniture: They Comfort Themselves With the Bottle."/>
          <p:cNvPicPr/>
          <p:nvPr/>
        </p:nvPicPr>
        <p:blipFill>
          <a:blip r:embed="rId2"/>
          <a:srcRect l="16419" t="13362" r="12528" b="18871"/>
          <a:stretch/>
        </p:blipFill>
        <p:spPr>
          <a:xfrm>
            <a:off x="507960" y="119160"/>
            <a:ext cx="8035920" cy="601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46120" y="6119640"/>
            <a:ext cx="795024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Unable to Obtain Employment, They are Driven by Poverty into the Streets to Beg, and by This Means They Still Supply the Bot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hi-res" descr=""/>
          <p:cNvPicPr/>
          <p:nvPr/>
        </p:nvPicPr>
        <p:blipFill>
          <a:blip r:embed="rId2"/>
          <a:srcRect l="5660" t="0" r="5660" b="7580"/>
          <a:stretch/>
        </p:blipFill>
        <p:spPr>
          <a:xfrm>
            <a:off x="554040" y="144360"/>
            <a:ext cx="7924680" cy="5915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4360" y="610884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, Misery and Want, Destroy Their Youngest Child: They Console Themselves With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003-20003" descr="The Bottle: Plate V. Cold, Misery and Want, Destroy Their Youngest Child: They Console Themselves With the Bottle."/>
          <p:cNvPicPr/>
          <p:nvPr/>
        </p:nvPicPr>
        <p:blipFill>
          <a:blip r:embed="rId2"/>
          <a:srcRect l="13550" t="13607" r="15957" b="23816"/>
          <a:stretch/>
        </p:blipFill>
        <p:spPr>
          <a:xfrm>
            <a:off x="412920" y="152280"/>
            <a:ext cx="8229600" cy="588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003-20004" descr="The Bottle: Plate VI. Fearful Quarrels and Brutal Violence Are the Natural Consequences of the Frequent Use of the Bottle."/>
          <p:cNvPicPr/>
          <p:nvPr/>
        </p:nvPicPr>
        <p:blipFill>
          <a:blip r:embed="rId2"/>
          <a:srcRect l="15300" t="15626" r="12479" b="20291"/>
          <a:stretch/>
        </p:blipFill>
        <p:spPr>
          <a:xfrm>
            <a:off x="457200" y="152280"/>
            <a:ext cx="8077320" cy="572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69720" y="594216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rful Quarrels and Brutal Violence Are the Natural Consequences of the Frequent Use of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6019920"/>
            <a:ext cx="809928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usband, in a State of Furious Drunkenness Kills His Wife With The Instrument of All Their Mi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003-20018" descr="The Bottle: Plate VII. The Husband, in a State of Furious Drunkeness Kills His Wife With The Instrument of All Their Misery."/>
          <p:cNvPicPr/>
          <p:nvPr/>
        </p:nvPicPr>
        <p:blipFill>
          <a:blip r:embed="rId2"/>
          <a:srcRect l="13116" t="6594" r="11184" b="13400"/>
          <a:stretch/>
        </p:blipFill>
        <p:spPr>
          <a:xfrm>
            <a:off x="457200" y="139680"/>
            <a:ext cx="8077320" cy="588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9:38:04Z</dcterms:created>
  <dc:creator>Magner</dc:creator>
  <dc:description/>
  <dc:language>en-US</dc:language>
  <cp:lastModifiedBy>Magner</cp:lastModifiedBy>
  <dcterms:modified xsi:type="dcterms:W3CDTF">2008-09-20T19:38:04Z</dcterms:modified>
  <cp:revision>16</cp:revision>
  <dc:subject/>
  <dc:title>The Bottle</dc:title>
</cp:coreProperties>
</file>