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011-BB97-4D27-8ACC-B3B356D7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F19-E3D3-4434-8917-7A618081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0F1-D68B-41AB-9D3C-A15FAA31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B00-894E-4464-A96E-F0D51FB2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2F63-7E79-4FEC-A138-1CBF0DAD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BA41-F28A-4661-8CC9-86638359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CEAA-4467-43FD-8D48-FC25F700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0021-4843-4BA3-88F4-708EFADC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51A9-4E50-472C-AA9E-387A67A3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DC8B-0A16-49C1-BCF7-3C456DAC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09E0-1C0D-43EC-B2EF-17FF8746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DDE-7D22-40AC-B2A1-138CA478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AC3D-B9B9-4C00-B443-7E273643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D560-55F7-402E-8758-EE35AC78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FAA5-BB0B-419A-BC99-8B4FEC00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DA14-FB5A-4981-9824-DDD7F01F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D8AD-102C-457C-89D1-E4E814C2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767-2EA2-41E5-BC08-B83D1A4E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78C-A93C-49F1-935E-0B0D8F4B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6B1-8918-441E-A541-94A2E522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676-BF73-432B-8D69-4A5D3C5F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C21-8CC9-4EF4-BD02-C8619584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C7C-FA19-444F-90C0-52B0BB34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7AF-BE6C-492E-A85D-18DDAE0A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AEB2-5CD3-484B-A52F-419521383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6064-6EDC-4693-8BF4-9718BE181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en-US" sz="7200" spc="-1" strike="noStrike">
                <a:solidFill>
                  <a:srgbClr val="000000"/>
                </a:solidFill>
                <a:latin typeface="French Script MT"/>
              </a:rPr>
              <a:t>The Bottle</a:t>
            </a: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Temperance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U.S. History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914400"/>
            <a:ext cx="7467840" cy="4952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25905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word document, write a persuasive essay either supporting or refuting the artist’s point of view on the effects of alcoh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vidence from the previous slides and your graphic organizer to support your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76320" y="380880"/>
            <a:ext cx="9220320" cy="1676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What was the perspective of the artist,</a:t>
            </a:r>
            <a:r>
              <a:rPr b="1" lang="en-US" sz="5400" spc="-1" strike="noStrike">
                <a:solidFill>
                  <a:srgbClr val="ffffff"/>
                </a:solidFill>
                <a:latin typeface="French Script MT"/>
              </a:rPr>
              <a:t> George Cruikshan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rench Script MT"/>
              </a:rPr>
              <a:t>George Cruikshan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057400"/>
            <a:ext cx="8001000" cy="65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This is a presentation containing 7 of the 8 plates from </a:t>
            </a:r>
            <a:r>
              <a:rPr b="1" i="1" lang="en-US" sz="4400" spc="-1" strike="noStrike">
                <a:solidFill>
                  <a:srgbClr val="ffffff"/>
                </a:solidFill>
                <a:latin typeface="French Script MT"/>
              </a:rPr>
              <a:t>The Bottle</a:t>
            </a:r>
            <a:r>
              <a:rPr b="1" lang="en-US" sz="4400" spc="-1" strike="noStrike">
                <a:solidFill>
                  <a:srgbClr val="ffffff"/>
                </a:solidFill>
                <a:latin typeface="French Script MT"/>
              </a:rPr>
              <a:t>,</a:t>
            </a: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 which was a collection of prints created (1847) by George Cruikshank, a caricaturist and book illustrator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Cruiksank captured moralistic themes inspired by the temperance move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604188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ottle Is Brought Out for the First Time: The Husband Induces His Wife "Just to Take a Dr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2003-19998" descr="The Bottle: Plate I. The Bottle Is Brought Out for the First Time: The Husband Induces His Wife &quot;Just to Take a Drop&quot;."/>
          <p:cNvPicPr/>
          <p:nvPr/>
        </p:nvPicPr>
        <p:blipFill>
          <a:blip r:embed="rId2"/>
          <a:srcRect l="16587" t="13601" r="12353" b="20621"/>
          <a:stretch/>
        </p:blipFill>
        <p:spPr>
          <a:xfrm>
            <a:off x="380880" y="77760"/>
            <a:ext cx="8229600" cy="5938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6041880"/>
            <a:ext cx="81090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Is Discharged &gt;From His Employment For Drunkenness: They Pawn Their Clothes to Supply the Bott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2003-19999" descr="The Bottle: Plate II. He Is Discharged &gt;From His Employment For Drunkness: They Pawn Their Clothes to Supply the Bottle."/>
          <p:cNvPicPr/>
          <p:nvPr/>
        </p:nvPicPr>
        <p:blipFill>
          <a:blip r:embed="rId2"/>
          <a:srcRect l="14103" t="11268" r="14418" b="23086"/>
          <a:stretch/>
        </p:blipFill>
        <p:spPr>
          <a:xfrm>
            <a:off x="533520" y="152280"/>
            <a:ext cx="8001000" cy="579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2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9800" y="6119640"/>
            <a:ext cx="81090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ecution Sweeps Off the Greater Part of Their Furniture: They Comfort Themselves With the Bot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2003-20000" descr="The Bottle: Plate III. An Execution Sweeps Off the Greater Part of Their Furniture: They Comfort Themselves With the Bottle."/>
          <p:cNvPicPr/>
          <p:nvPr/>
        </p:nvPicPr>
        <p:blipFill>
          <a:blip r:embed="rId2"/>
          <a:srcRect l="16419" t="13362" r="12528" b="18871"/>
          <a:stretch/>
        </p:blipFill>
        <p:spPr>
          <a:xfrm>
            <a:off x="507960" y="119160"/>
            <a:ext cx="8035920" cy="601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5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46120" y="6119640"/>
            <a:ext cx="795024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Unable to Obtain Employment, They are Driven by Poverty into the Streets to Beg, and by This Means They Still Supply the Bot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hi-res" descr=""/>
          <p:cNvPicPr/>
          <p:nvPr/>
        </p:nvPicPr>
        <p:blipFill>
          <a:blip r:embed="rId2"/>
          <a:srcRect l="5660" t="0" r="5660" b="7580"/>
          <a:stretch/>
        </p:blipFill>
        <p:spPr>
          <a:xfrm>
            <a:off x="554040" y="144360"/>
            <a:ext cx="7924680" cy="5915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8" name="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V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14360" y="610884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d, Misery and Want, Destroy Their Youngest Child: They Console Themselves With the Bott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003-20003" descr="The Bottle: Plate V. Cold, Misery and Want, Destroy Their Youngest Child: They Console Themselves With the Bottle."/>
          <p:cNvPicPr/>
          <p:nvPr/>
        </p:nvPicPr>
        <p:blipFill>
          <a:blip r:embed="rId2"/>
          <a:srcRect l="13550" t="13607" r="15957" b="23816"/>
          <a:stretch/>
        </p:blipFill>
        <p:spPr>
          <a:xfrm>
            <a:off x="412920" y="152280"/>
            <a:ext cx="8229600" cy="588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1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2003-20004" descr="The Bottle: Plate VI. Fearful Quarrels and Brutal Violence Are the Natural Consequences of the Frequent Use of the Bottle."/>
          <p:cNvPicPr/>
          <p:nvPr/>
        </p:nvPicPr>
        <p:blipFill>
          <a:blip r:embed="rId2"/>
          <a:srcRect l="15300" t="15626" r="12479" b="20291"/>
          <a:stretch/>
        </p:blipFill>
        <p:spPr>
          <a:xfrm>
            <a:off x="457200" y="152280"/>
            <a:ext cx="8077320" cy="572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69720" y="594216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rful Quarrels and Brutal Violence Are the Natural Consequences of the Frequent Use of the Bot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6019920"/>
            <a:ext cx="809928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usband, in a State of Furious Drunkenness Kills His Wife With The Instrument of All Their Mis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2003-20018" descr="The Bottle: Plate VII. The Husband, in a State of Furious Drunkeness Kills His Wife With The Instrument of All Their Misery."/>
          <p:cNvPicPr/>
          <p:nvPr/>
        </p:nvPicPr>
        <p:blipFill>
          <a:blip r:embed="rId2"/>
          <a:srcRect l="13116" t="6594" r="11184" b="13400"/>
          <a:stretch/>
        </p:blipFill>
        <p:spPr>
          <a:xfrm>
            <a:off x="457200" y="139680"/>
            <a:ext cx="8077320" cy="5880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7" name="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9:38:04Z</dcterms:created>
  <dc:creator>Magner</dc:creator>
  <dc:description/>
  <dc:language>en-US</dc:language>
  <cp:lastModifiedBy>Magner</cp:lastModifiedBy>
  <dcterms:modified xsi:type="dcterms:W3CDTF">2008-09-20T19:38:04Z</dcterms:modified>
  <cp:revision>16</cp:revision>
  <dc:subject/>
  <dc:title>The Bottle</dc:title>
</cp:coreProperties>
</file>